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768F-09F1-4969-BB41-F4C2B794D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C19C-84FD-426C-A646-70A77F46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B0B8-D02A-44A8-A2B2-3DB159ADE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FF9E-AA08-4E19-86F8-D722BCA99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7934-851F-4D47-8D5F-ABFC1624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FFB8-4BE2-4107-9443-7E4D3EBC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9778-7B09-4DA6-9CF6-D0E79321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214F-6E27-436F-A6DD-BF178323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B75F-0EEA-49A3-8874-8DC23E8D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588A-488D-462D-89CD-31B29A18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5EBB-20F1-406D-A16F-E8ECEF21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849B-18EF-4231-A67E-0DD871E8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DA9E-7FB9-4788-AAF2-F93E297DC7A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A42A-9DE0-4644-AA40-233435DFBDF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ثا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ndalus"/>
              </a:rPr>
              <a:t>فعالية التقارير المال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ndalus"/>
              </a:rPr>
              <a:t>كموصل جيد للمعلوم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781200" y="2809800"/>
          <a:ext cx="7772400" cy="839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2809800"/>
                    <a:ext cx="7772400" cy="839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6224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4951-2ED7-4DF6-8E9B-02C1C41C6A98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611280" y="2311560"/>
          <a:ext cx="8353440" cy="838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311560"/>
                    <a:ext cx="8353440" cy="83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00188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183F-D336-478B-B32C-8D70F2283C8A}" type="slidenum">
              <a:t>11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61760" y="2434320"/>
            <a:ext cx="7534800" cy="30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33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الشمولية (الحد الأدنى من المعلومات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دى اعتماد المستفيدين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دى قراءة كل جزء من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دى فهم محتويات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981000"/>
            <a:ext cx="7705440" cy="1079640"/>
          </a:xfrm>
          <a:prstGeom prst="bevel">
            <a:avLst>
              <a:gd name="adj" fmla="val 2644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هي مؤشرات فعالية التقارير المالي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BB8D-F842-4575-9CC1-5A5ED46AD093}" type="slidenum">
              <a:t>2</a:t>
            </a:fld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069920"/>
            <a:ext cx="8153280" cy="990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76320">
            <a:solidFill>
              <a:srgbClr val="00004a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حتويات التقارير المالية (العرض والافصاح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2673360"/>
            <a:ext cx="8153280" cy="3276720"/>
          </a:xfrm>
          <a:prstGeom prst="roundRect">
            <a:avLst>
              <a:gd name="adj" fmla="val 16667"/>
            </a:avLst>
          </a:prstGeom>
          <a:solidFill>
            <a:srgbClr val="fde7b1"/>
          </a:solidFill>
          <a:ln w="57240">
            <a:solidFill>
              <a:srgbClr val="00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ما هو الافصاح؟؟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عرض المعلومات المهمة للمستفيدين من التقارير المالية بطريقة تساعد على التنبؤ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أو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عرض القوائم المالية بكل وضوح طبقا للمبادئ المحاسبية المتعارف عليه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4CC1-380D-42B2-8B3E-1E7825517CCD}" type="slidenum">
              <a:t>3</a:t>
            </a:fld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1069920"/>
            <a:ext cx="8153280" cy="990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7632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همية العرض والإفصا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673360"/>
            <a:ext cx="8153280" cy="32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يحقق عدد من المزايا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امداد المستفيدين بالمعلومات عن المنشأة أو المشروع وبالتالي ترشيد عملية اتخاذ القر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استخدام الموارد الاقتصادية المتاحة بكفاءة وفعالية، بمعنى آخر يساعد على تخصيص وإعادة تخصيص الموارد بين المنشآت الاقتصاد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4B7B-045E-4B39-8DF0-7C038F445684}" type="slidenum">
              <a:t>4</a:t>
            </a:fld>
          </a:p>
        </p:txBody>
      </p: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736200"/>
            <a:ext cx="7772760" cy="835200"/>
          </a:xfrm>
          <a:prstGeom prst="rect">
            <a:avLst/>
          </a:prstGeom>
          <a:solidFill>
            <a:srgbClr val="fde7b1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وامل المؤثرة على الافصا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37640" y="2185200"/>
            <a:ext cx="2182320" cy="96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4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وامل تتعل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ب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448680" y="2257920"/>
            <a:ext cx="1960920" cy="894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4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وامل بيئ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10360" y="3971880"/>
            <a:ext cx="2514600" cy="2121120"/>
          </a:xfrm>
          <a:prstGeom prst="rect">
            <a:avLst/>
          </a:prstGeom>
          <a:solidFill>
            <a:srgbClr val="fef0ce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قتصا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جتماع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ياس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قانونية (قوانين الشركات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3997440"/>
            <a:ext cx="2514600" cy="2095560"/>
          </a:xfrm>
          <a:prstGeom prst="rect">
            <a:avLst/>
          </a:prstGeom>
          <a:solidFill>
            <a:srgbClr val="fef0ce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550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لائمة المعلومات لاتخاذ القرارات (خصائص المعلومات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2600" y="4016520"/>
            <a:ext cx="2590560" cy="2076480"/>
          </a:xfrm>
          <a:prstGeom prst="rect">
            <a:avLst/>
          </a:prstGeom>
          <a:solidFill>
            <a:srgbClr val="fef0ce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حجم 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د المساهم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داول الاسه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راجع الخارج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43480" y="2133720"/>
            <a:ext cx="228600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وامل تتعل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ب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630864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238880" y="3206880"/>
            <a:ext cx="646200" cy="726840"/>
          </a:xfrm>
          <a:prstGeom prst="downArrow">
            <a:avLst>
              <a:gd name="adj1" fmla="val 50000"/>
              <a:gd name="adj2" fmla="val 28120"/>
            </a:avLst>
          </a:prstGeom>
          <a:solidFill>
            <a:srgbClr val="468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93720" y="3213000"/>
            <a:ext cx="601920" cy="792360"/>
          </a:xfrm>
          <a:prstGeom prst="downArrow">
            <a:avLst>
              <a:gd name="adj1" fmla="val 50000"/>
              <a:gd name="adj2" fmla="val 32910"/>
            </a:avLst>
          </a:prstGeom>
          <a:solidFill>
            <a:srgbClr val="468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02080" y="3213000"/>
            <a:ext cx="601560" cy="792360"/>
          </a:xfrm>
          <a:prstGeom prst="downArrow">
            <a:avLst>
              <a:gd name="adj1" fmla="val 50000"/>
              <a:gd name="adj2" fmla="val 32929"/>
            </a:avLst>
          </a:prstGeom>
          <a:solidFill>
            <a:srgbClr val="468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FD67-D970-4D75-BFC8-8BE713EBCDF0}" type="slidenum">
              <a:t>5</a:t>
            </a:fld>
          </a:p>
        </p:txBody>
      </p:sp>
    </p:spTree>
  </p:cSld>
  <p:transition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1920" y="1819440"/>
          <a:ext cx="9304200" cy="838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" y="1819440"/>
                    <a:ext cx="9304200" cy="838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6019920" y="63849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1522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168F-9A52-48C0-8904-88E46C65317D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66560" y="2860560"/>
          <a:ext cx="8498160" cy="805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2860560"/>
                    <a:ext cx="8498160" cy="805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43496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DA90-1FAC-445F-878F-0CE98545A820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468360" y="2300400"/>
          <a:ext cx="8424720" cy="840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00400"/>
                    <a:ext cx="8424720" cy="84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DC5E-ECF4-4F2D-B6E6-D6CAC7578DEB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468360" y="2133720"/>
          <a:ext cx="8136000" cy="835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133720"/>
                    <a:ext cx="8136000" cy="83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2888-0D25-4057-A327-CF19E2269555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saeed dawas</cp:lastModifiedBy>
  <dcterms:modified xsi:type="dcterms:W3CDTF">2004-05-30T23:05:20Z</dcterms:modified>
  <cp:revision>28</cp:revision>
  <dc:subject/>
  <dc:title>التحليل المالي والائتماني</dc:title>
</cp:coreProperties>
</file>